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D89-9951-4559-851C-BA991EB6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10B-9D1C-43CE-ACE5-CFFCE77A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ACE-74F3-4A6E-A308-E9894181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DD3-F71D-4785-999B-BA2241A3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4E9-F9F1-4A66-A79D-1CF66657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BE7-9C4E-4F54-AC83-83734440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7BE-FA23-4FB6-88E6-46BF1986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FEF-13D1-42C2-A846-A4A954B1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C41-8FD9-45C6-902A-1316E6CD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28A-B7BD-4ADD-BD10-DD5E450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68E-F8A2-4E42-BEDE-894C8995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994-CAFD-462B-B1A8-846A51BD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89EE-981F-4F80-8820-C46463B50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Mantel-Haenszel Test-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 Version of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 Exact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85800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95480" y="5105520"/>
            <a:ext cx="533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7162920" cy="83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708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716292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71629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26708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447920" y="3962520"/>
            <a:ext cx="182880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55308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638680" y="3962520"/>
            <a:ext cx="2057400" cy="761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447920" y="4724280"/>
            <a:ext cx="4698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238880" y="4724280"/>
            <a:ext cx="4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808200"/>
            <a:ext cx="6858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351000"/>
            <a:ext cx="7238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594360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58000" y="44956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86400" y="4876920"/>
            <a:ext cx="2895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(Previous L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Sample Form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0:38:39Z</dcterms:modified>
  <cp:revision>41</cp:revision>
  <dc:subject/>
  <dc:title>PowerPoint Presentation</dc:title>
</cp:coreProperties>
</file>